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B37-3DAC-4461-ADCF-B2CF0584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F36-B486-41EB-9732-10202454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86D-346B-43C0-8F1E-673DA06D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219-4736-48D8-A8A9-EA0D3E4F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4A5C-82A4-4501-AE7F-3A4C6406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CE3B-8CDC-470F-96CD-5077E949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77F1-0038-4FE9-A488-1F221B6C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3721-155C-408E-8965-550CE579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1352-01E8-4C46-8C2D-BD260E2B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9E1F-BDC1-4C84-B890-591D5D6E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8E7F-2CDE-4FEC-99BA-5FCF737B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6C1-93C3-4684-878D-406072DC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2D30-6B30-4015-857C-F0CDDFC2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BC15-88FD-4FEC-B1A0-7FDB2C89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64FA-5C18-4B4D-8324-1D708D7D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56B9-45BA-4F67-91E8-686D0026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E426-3F4A-4B10-9485-B3489AF2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2D9-D85D-471D-B95A-27DFE84A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1B25-0D75-4291-A758-6B2D0D9F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4C8-3017-41B0-9487-118D453B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1DE-A22D-48C8-9D76-1CDAA258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D48-3E0D-47D8-9397-E146C3C4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FCB-F9FB-46D1-BCEA-A4B3883E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D23-FE51-401E-985D-08744428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A8D0-BE61-4EA9-981E-6F2360844D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0642-FA7D-404F-A0F1-7EBF874955D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35.xml"/><Relationship Id="rId11" Type="http://schemas.openxmlformats.org/officeDocument/2006/relationships/slide" Target="slide24.xml"/><Relationship Id="rId12" Type="http://schemas.openxmlformats.org/officeDocument/2006/relationships/slide" Target="slide45.xml"/><Relationship Id="rId13" Type="http://schemas.openxmlformats.org/officeDocument/2006/relationships/slide" Target="slide23.xml"/><Relationship Id="rId14" Type="http://schemas.openxmlformats.org/officeDocument/2006/relationships/slide" Target="slide26.xml"/><Relationship Id="rId15" Type="http://schemas.openxmlformats.org/officeDocument/2006/relationships/slide" Target="slide37.xml"/><Relationship Id="rId16" Type="http://schemas.openxmlformats.org/officeDocument/2006/relationships/slide" Target="slide47.xml"/><Relationship Id="rId17" Type="http://schemas.openxmlformats.org/officeDocument/2006/relationships/slide" Target="slide17.xml"/><Relationship Id="rId18" Type="http://schemas.openxmlformats.org/officeDocument/2006/relationships/slide" Target="slide34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9.xml"/><Relationship Id="rId22" Type="http://schemas.openxmlformats.org/officeDocument/2006/relationships/slide" Target="slide29.xml"/><Relationship Id="rId23" Type="http://schemas.openxmlformats.org/officeDocument/2006/relationships/slide" Target="slide41.xml"/><Relationship Id="rId24" Type="http://schemas.openxmlformats.org/officeDocument/2006/relationships/slide" Target="slide51.xml"/><Relationship Id="rId25" Type="http://schemas.openxmlformats.org/officeDocument/2006/relationships/slide" Target="slide21.xml"/><Relationship Id="rId26" Type="http://schemas.openxmlformats.org/officeDocument/2006/relationships/slide" Target="slide31.xml"/><Relationship Id="rId27" Type="http://schemas.openxmlformats.org/officeDocument/2006/relationships/slide" Target="slide43.xml"/><Relationship Id="rId28" Type="http://schemas.openxmlformats.org/officeDocument/2006/relationships/slide" Target="slide53.xml"/><Relationship Id="rId29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5.xml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8.xml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0.xm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8.xml"/><Relationship Id="rId3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0.xm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4.xml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8.xml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0.xm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2.xml"/><Relationship Id="rId3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4.xml"/><Relationship Id="rId3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" Target="slide56.xml"/><Relationship Id="rId5" Type="http://schemas.openxmlformats.org/officeDocument/2006/relationships/slide" Target="slide58.xml"/><Relationship Id="rId6" Type="http://schemas.openxmlformats.org/officeDocument/2006/relationships/slide" Target="slide60.xml"/><Relationship Id="rId7" Type="http://schemas.openxmlformats.org/officeDocument/2006/relationships/slide" Target="slide62.xml"/><Relationship Id="rId8" Type="http://schemas.openxmlformats.org/officeDocument/2006/relationships/slide" Target="slide64.xml"/><Relationship Id="rId9" Type="http://schemas.openxmlformats.org/officeDocument/2006/relationships/slide" Target="slide76.xml"/><Relationship Id="rId10" Type="http://schemas.openxmlformats.org/officeDocument/2006/relationships/slide" Target="slide78.xml"/><Relationship Id="rId11" Type="http://schemas.openxmlformats.org/officeDocument/2006/relationships/slide" Target="slide77.xml"/><Relationship Id="rId12" Type="http://schemas.openxmlformats.org/officeDocument/2006/relationships/slide" Target="slide80.xml"/><Relationship Id="rId13" Type="http://schemas.openxmlformats.org/officeDocument/2006/relationships/slide" Target="slide70.xml"/><Relationship Id="rId14" Type="http://schemas.openxmlformats.org/officeDocument/2006/relationships/slide" Target="slide82.xml"/><Relationship Id="rId15" Type="http://schemas.openxmlformats.org/officeDocument/2006/relationships/slide" Target="slide72.xml"/><Relationship Id="rId16" Type="http://schemas.openxmlformats.org/officeDocument/2006/relationships/slide" Target="slide84.xml"/><Relationship Id="rId17" Type="http://schemas.openxmlformats.org/officeDocument/2006/relationships/slide" Target="slide74.xml"/><Relationship Id="rId18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9.xml"/><Relationship Id="rId3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1.xml"/><Relationship Id="rId3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3.xml"/><Relationship Id="rId3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5.xml"/><Relationship Id="rId3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1.xml"/><Relationship Id="rId3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3.xml"/><Relationship Id="rId3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5.xml"/><Relationship Id="rId3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7.xml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is</a:t>
            </a:r>
            <a:br>
              <a:rPr sz="5400"/>
            </a:b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is</a:t>
            </a:r>
            <a:br>
              <a:rPr sz="5400"/>
            </a:b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Jeopardy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glish 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Of Mice and 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Slim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is character owns a shotgun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rook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is character finds Curley’s wife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andy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e men were playing this game when Curley’s wife died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horseshoe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is character killed Lennie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Georg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Final Jeopardy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ing Sty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e two types of writing styles utilized by Steinbeck in </a:t>
            </a:r>
            <a:r>
              <a:rPr b="1" i="1" lang="en-US" sz="4800" spc="-1" strike="noStrike">
                <a:solidFill>
                  <a:srgbClr val="b9efee"/>
                </a:solidFill>
                <a:latin typeface="Garamond"/>
              </a:rPr>
              <a:t>Of Mice and Men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Son of the boss whose hand was crushed by Lennie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are naturalistic and lyrical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urley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Who is described in the following passage:  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She’s gonna make a mess.  They’s gonna be a bad mess about her.  She’s a jail bait all set on the trigger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urley’s Wif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He said: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I’d pet ‘em, and pretty soon they big my fingers and I pinched their heads a little and they was dead – because they was so little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Lenni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He says: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You got no right to come in my room.  This here’s my room.  Nobody got any right in here but me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rook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He says: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That dog of Candy’s is so old he can’t hardly walk…Why’n’t you get Candy to shoot his old dog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ff66"/>
                </a:solidFill>
                <a:latin typeface="Garamond"/>
              </a:rPr>
              <a:t>Jeopard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71480" y="1600200"/>
          <a:ext cx="7756560" cy="4638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1480" y="1600200"/>
                    <a:ext cx="775656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838080" y="1752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Charac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Quo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17524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Lit.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2040" y="1752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P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82040" y="1752480"/>
            <a:ext cx="18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Characters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5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6" action="ppaction://hlinksldjump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7" action="ppaction://hlinksldjump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720" y="55278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8" action="ppaction://hlinksldjump"/>
              </a:rPr>
              <a:t>Q $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9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0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1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4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5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7" action="ppaction://hlinksldjump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8" action="ppaction://hlinksldjump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9" action="ppaction://hlinksldjump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0" action="ppaction://hlinksldjump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1" action="ppaction://hlinksldjump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2" action="ppaction://hlinksldjump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3" action="ppaction://hlinksldjump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4" action="ppaction://hlinksldjump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6760" y="55627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5" action="ppaction://hlinksldjump"/>
              </a:rPr>
              <a:t>Q $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40640" y="55627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6" action="ppaction://hlinksldjump"/>
              </a:rPr>
              <a:t>Q $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4880" y="55627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7" action="ppaction://hlinksldjump"/>
              </a:rPr>
              <a:t>Q $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12440" y="55627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28" action="ppaction://hlinksldjump"/>
              </a:rPr>
              <a:t>Q $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arlson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Who says: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An’ s’pose they lock him up an’ strap him down in a cage.  That ain’t no good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Slim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90720" y="1447920"/>
            <a:ext cx="74674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ai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’d pet ‘em, and pretty soon they bit my fingers and I pinched their heads a little and then they was dead, because they was so littl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“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nnie dabbled his big pay in the water.”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a metaphor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419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is is when we learn about the character directly from the narrator.  For example, if the narrator tells directly what Curley’s wife looks like: “full, rouged lips and wide spaced eyes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use of words like “thud,” “clang,” “buzz.”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onomatopoeia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e literary device that is demonstrated in the following passage: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Then gradually time awakened again and moved sluggishly on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ost his hand and received $250 because of i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personification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andy is troubled over whether or not to have his dog killed.  Later he says that he should have done it himself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internal conflict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direct characterization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66680" y="13716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use of words like “thud,” “clang,” “buzz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nnie was to go here if he got in any trouble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the brush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is happened to cause Lennie to start traveling with George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the death of Aunt Clara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e men lie and say that Curley’s hand got crushed by thi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andy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a machin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haracters that knew about George and Lennie’s dream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are George, Lennie, Candy, and Crook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setting of the story. (state)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California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is character always says “We’ll live off the fatta the lan.”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Lenni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George promised Lennie he would ask this man for a pup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Slim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is man teased Lennie about George not coming back from town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“stable buck” on the ranch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rook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is was the only person who really understood why George had to shoot Lennie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Slim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971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Says: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I tell ya I could of went with shows.  Not jus’ one, neither.  An’ a guy tol’ me he could put me in pitchers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urley’s wif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66"/>
                </a:solidFill>
                <a:latin typeface="Arial"/>
              </a:rPr>
              <a:t>Double Jeopar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771480" y="1600200"/>
          <a:ext cx="7756560" cy="4638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1480" y="1600200"/>
                    <a:ext cx="775656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838080" y="1752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Charac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Quo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85480" y="17524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Lit.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92040" y="1752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P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81320" y="1752480"/>
            <a:ext cx="18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e6b"/>
                </a:solidFill>
                <a:latin typeface="Times New Roman"/>
              </a:rPr>
              <a:t>Characters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4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5" action="ppaction://hlinksldjump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00720" y="400356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6" action="ppaction://hlinksldjump"/>
              </a:rPr>
              <a:t>Q $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720" y="476568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7" action="ppaction://hlinksldjump"/>
              </a:rPr>
              <a:t>Q $1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00720" y="55278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8" action="ppaction://hlinksldjump"/>
              </a:rPr>
              <a:t>Q $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9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1" action="ppaction://hlinksldjump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2" action="ppaction://hlinksldjump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16760" y="39625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3" action="ppaction://hlinksldjump"/>
              </a:rPr>
              <a:t>Q $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64680" y="39625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4" action="ppaction://hlinksldjump"/>
              </a:rPr>
              <a:t>Q $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41120" y="39625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12440" y="403848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16760" y="472428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5" action="ppaction://hlinksldjump"/>
              </a:rPr>
              <a:t>Q $1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40640" y="48006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6" action="ppaction://hlinksldjump"/>
              </a:rPr>
              <a:t>Q $1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64880" y="48006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1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12440" y="48006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1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16760" y="55627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99"/>
                </a:solidFill>
                <a:uFillTx/>
                <a:latin typeface="Times New Roman"/>
                <a:hlinkClick r:id="rId17" action="ppaction://hlinksldjump"/>
              </a:rPr>
              <a:t>Q $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40640" y="55627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64880" y="55627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12440" y="55627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e man who wanted to join George and Lennie on their ranch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andy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character who was kicked in the back by a horse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rook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rook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George and Lennie’s job on the ranch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bucking barley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crop  George and Lennie plan to feed the rabbits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alfalfa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urley’s glove was full of this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Vaselin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“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George, tell me about the </a:t>
            </a:r>
            <a:br>
              <a:rPr sz="5400"/>
            </a:b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	</a:t>
            </a: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	</a:t>
            </a: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	</a:t>
            </a: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	</a:t>
            </a: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.”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are rabbit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Don’t let him sock me, George.”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Who does Lennie want George to protect him from?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urley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Shoots the old dog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971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He says: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I ain’t sure I want you in here no more.   A colored man got to have some rights, even if he don’t like ‘em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rooks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Says: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I never get to talk to nobody.  I get awful lonely.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urley’s wif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He speaks the last line of the book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arlson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66680" y="9907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, tell me about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066680" y="990720"/>
            <a:ext cx="6705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Don’t let him sock me, George.”</a:t>
            </a:r>
            <a:br>
              <a:rPr sz="4000"/>
            </a:b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Who does Lennie want George to protect him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A comparison of two things using like or as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a simil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arlson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Using over-exaggeration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hyperbol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Giving human qualities to non-human things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personification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omparing two unlike things without using like or as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a metaphor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Man vs. Man is this type of conflic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an external conflict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condiment Lennie wanted for his beans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ketchup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Jerkline skinner on the ranch whom George told about Lennie’s experience in Weed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color of the dress Lennie grabbed in Weed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red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fight between Curley and Lennie took place here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the bunk hous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is is how much George thought he would pay for his ranch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$600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nnie threatened to leave George and go live here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at is in a cave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is character owns a pistol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Who is Carlson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"/>
          <p:cNvSpPr/>
          <p:nvPr/>
        </p:nvSpPr>
        <p:spPr>
          <a:xfrm>
            <a:off x="533520" y="50292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21:29:00Z</dcterms:created>
  <dc:creator>Toni Poling</dc:creator>
  <dc:description/>
  <dc:language>en-US</dc:language>
  <cp:lastModifiedBy>PA Department of Education</cp:lastModifiedBy>
  <dcterms:modified xsi:type="dcterms:W3CDTF">2010-04-29T18:41:19Z</dcterms:modified>
  <cp:revision>18</cp:revision>
  <dc:subject/>
  <dc:title>This is Jeopardy!</dc:title>
</cp:coreProperties>
</file>